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B7D9-DCAD-42BD-ADCC-AF972A243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DE2A-798F-44DE-8869-EFD539EF40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E118-A9F0-4239-B0C8-BF1FC8DCC14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CC18-1B76-4D98-9C6F-2D0607DB81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DD8A-6F2A-4838-BAB4-E180470242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FE43-860A-4022-9A0C-0612B9A6B8A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EBAA-2107-4FE3-BD29-2F120A1611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9B1-086F-445A-BB60-6FE0C797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79D-071F-4623-A273-A599E478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34E0-F651-45BB-B66F-57FA2EDF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F48-A111-49DC-B567-ECACC888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8EE5-A8B0-4E7D-862C-9071EB5D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BEE8-699F-4B17-A6B5-4E12B414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4394-4CAD-48A2-9409-4441008C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DAA5-9733-49BF-8E55-62D84E00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FBD4-B494-4ECF-B29B-E13A496C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658A-6513-4929-B70D-D5D0EC50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A718-1E9A-472A-A0D8-1D4D5051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BBF-DD20-400A-8DA1-C85460BD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F69E-BD59-4A98-9510-3351201D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546E-5167-4433-9949-7AF5B9F6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AC1B-7AD0-42C1-B9FA-EBE79E94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DE24-7693-43E5-950E-40D469DC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DF46-BCE9-4D21-870B-C5C3AE03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742-3F6A-4397-BA39-87358213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422-F818-4188-8045-7A0EE38C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971-C3E6-4C71-9D15-B119A686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68D-CBC7-4659-B01A-357F0C96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256-D386-46B8-BC87-84B648E4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EA0-CDC4-4F43-974F-ECA104A1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B2A-8BCF-45DD-9EA0-F2B33B39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CC12-430B-4323-B2AF-33F251C64F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D621-E919-4A7B-8D85-B22A774028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nguage Register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gister of voices is an impression that’s left of your voice on others.  What kind of impression do you want to lea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Frozen Register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’t change the word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respect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: Pledge of Allegiance, marriage vow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Formal Register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ard academic 1 way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ation or Speech Ta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: Essay or Research Pa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1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Consultative Register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ard academic 2 way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pol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: discussions, questions &amp; ans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Casual Register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standard 1 &amp; 2 way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ng, incomplete sentences, talking w/ fri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imate Regis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standard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 between people in relationships (husbands/wives, moms/dads, et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nnet 17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if we get this f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1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istres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irlfri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ral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ink or reddish-orange in c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un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brownish-grey c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amasked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co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ek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have a strong bad sme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th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ha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ant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dmit that something is true although it does not make much difference to your opin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to put your foot on or in something while you are wal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ar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nusual; uncom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lied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isrepresent; to 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22:10:53Z</dcterms:created>
  <dc:creator>teacher</dc:creator>
  <dc:description/>
  <dc:language>en-US</dc:language>
  <cp:lastModifiedBy>nvasquez</cp:lastModifiedBy>
  <dcterms:modified xsi:type="dcterms:W3CDTF">2009-09-06T21:24:29Z</dcterms:modified>
  <cp:revision>11</cp:revision>
  <dc:subject/>
  <dc:title>Language Registers</dc:title>
</cp:coreProperties>
</file>